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351239"/>
        <c:axId val="33604734"/>
      </c:barChart>
      <c:catAx>
        <c:axId val="89351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04734"/>
        <c:crosses val="autoZero"/>
        <c:auto val="1"/>
        <c:lblAlgn val="ctr"/>
        <c:lblOffset val="100"/>
        <c:noMultiLvlLbl val="0"/>
      </c:catAx>
      <c:valAx>
        <c:axId val="33604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51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341-0ACC-43CA-BC27-F694DEFC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2A6-BFEA-47B1-9E04-83E818A9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D341-B383-438B-ACD0-08AA1F95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0372-C6CC-4BCA-920F-F6F652C9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C7F9-0732-4C1C-8131-10BFB93B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6D4-5047-4AA6-8C08-9551E9AE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1AA-D76B-41CC-9758-5B0381E6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19B-04B4-4BC6-A84B-819D45AD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FF7-EDAA-4910-A1CC-E077E737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8DA-CE4E-46E9-AF6C-86663DD4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941-8554-4232-BC8C-33B85CCF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7A6-7DA1-4E7C-BF1E-E0AC1B77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D1BB1-49A9-4E86-9A3D-2E435829AA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