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57880"/>
        <c:axId val="78758675"/>
      </c:barChart>
      <c:catAx>
        <c:axId val="36057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58675"/>
        <c:crosses val="autoZero"/>
        <c:auto val="1"/>
        <c:lblAlgn val="ctr"/>
        <c:lblOffset val="100"/>
        <c:noMultiLvlLbl val="0"/>
      </c:catAx>
      <c:valAx>
        <c:axId val="78758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57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A66-9479-4C90-977C-433FFBB4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A4B-0DC3-444E-AD98-6BC38500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1B1-CB5A-4AF4-BCD6-E8DC52D6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9A5-FF74-41C5-B299-9BE16374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0E2-D0F7-4182-A1FA-003D1F85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4F5-E2DA-4072-8F3A-50A3E02D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B6A-9D55-4AF8-A694-C12EB26D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535-F5BD-40C0-95C4-F6AD776D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A4B-B3BA-44C8-903D-BF0207FE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88B-623B-4286-B59A-498BACCA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C5C-E748-4927-A5F4-41C79450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C28-06C1-4541-89E5-8AC47CCB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21574-D34A-4052-A562-F17BF0A95A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