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14280"/>
        <c:axId val="40474581"/>
      </c:barChart>
      <c:catAx>
        <c:axId val="75914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74581"/>
        <c:crosses val="autoZero"/>
        <c:auto val="1"/>
        <c:lblAlgn val="ctr"/>
        <c:lblOffset val="100"/>
        <c:noMultiLvlLbl val="0"/>
      </c:catAx>
      <c:valAx>
        <c:axId val="40474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4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F9E-0A8A-4C41-8E2B-4633BD6C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E25-F7C2-4D1A-913E-AEA88562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E88-BD4B-416C-A399-54AC4315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DBB-5435-4B95-A7B2-4DFE0F40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A71-EE52-41F7-8443-078EFFC9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C24-F18D-4883-B72F-4B6F41BC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E5D-8E65-4DAA-B368-337454F3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480-ECCF-4D8E-AC4F-E92C9940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F0B-3DFB-47FF-BD61-214F07A3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BC2-DFFC-433A-811F-66FADFA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8BF-F186-4776-B49B-CA6FD387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85C-0645-4960-970E-E1517680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4B50C-C25B-4F0F-9609-084FDE4E18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