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101714"/>
        <c:axId val="35296358"/>
      </c:barChart>
      <c:catAx>
        <c:axId val="28101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96358"/>
        <c:crosses val="autoZero"/>
        <c:auto val="1"/>
        <c:lblAlgn val="ctr"/>
        <c:lblOffset val="100"/>
        <c:noMultiLvlLbl val="0"/>
      </c:catAx>
      <c:valAx>
        <c:axId val="352963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01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0EF-57FE-4979-89E0-68997765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5A1-2D21-463E-BC34-A8A1536C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A30-1187-4B83-9B34-A94A3DE4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B9B-EE4B-4BDA-9560-11CCAB62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E44-6709-47DE-9CE6-ABA6E12C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745-E3FE-429B-822C-38E849D4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A6D-BCBC-4310-8837-50E2FB27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399C-4851-420A-BEE0-5B4E024F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1C13-2C4A-44B3-901E-04F30BFC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E52-B389-4EF3-AF39-2002A64E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273-EF51-4065-A838-45269629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BC7-6E7A-4E01-A97B-A0B03B60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50CDC-73DD-47BA-8868-D73A7DAC86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